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emf" ContentType="image/x-emf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drawings/_rels/drawing1.xml.rels" ContentType="application/vnd.openxmlformats-package.relationships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colonne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 colonne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3 colonne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gne 1</c:v>
                </c:pt>
                <c:pt idx="1">
                  <c:v>Ligne 2</c:v>
                </c:pt>
                <c:pt idx="2">
                  <c:v>Ligne 3</c:v>
                </c:pt>
                <c:pt idx="3">
                  <c:v>Ligne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41361"/>
        <c:axId val="87750368"/>
      </c:barChart>
      <c:catAx>
        <c:axId val="603413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0368"/>
        <c:crosses val="autoZero"/>
        <c:auto val="1"/>
        <c:lblAlgn val="ctr"/>
        <c:lblOffset val="100"/>
        <c:noMultiLvlLbl val="0"/>
      </c:catAx>
      <c:valAx>
        <c:axId val="87750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41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drawings/_rels/drawing1.xml.rels><?xml version="1.0" encoding="UTF-8"?>
<Relationships xmlns="http://schemas.openxmlformats.org/package/2006/relationships"><Relationship Id="rId1" Type="http://schemas.openxmlformats.org/officeDocument/2006/relationships/image" Target="../media/image11.emf"/>
</Relationships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</cdr:x>
      <cdr:y>0</cdr:y>
    </cdr:from>
    <cdr:to>
      <cdr:x>0.994896551724138</cdr:x>
      <cdr:y>0.997</cdr:y>
    </cdr:to>
    <cdr:pic>
      <cdr:nvPicPr>
        <cdr:cNvPr id="84" name="" descr=""/>
        <cdr:cNvPicPr/>
      </cdr:nvPicPr>
      <cdr:blipFill>
        <a:blip r:embed="rId1"/>
        <a:stretch/>
      </cdr:blipFill>
      <cdr:spPr>
        <a:xfrm>
          <a:off x="0" y="0"/>
          <a:ext cx="5193360" cy="2871360"/>
        </a:xfrm>
        <a:prstGeom prst="rect">
          <a:avLst/>
        </a:prstGeom>
        <a:ln w="0">
          <a:noFill/>
        </a:ln>
      </cdr:spPr>
    </cdr:pic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131-3285-4321-B438-A50D8EB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D6B-26E1-4BB4-ADF9-0CC55D38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E24-655C-4205-82A9-971FEFAC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20F-6760-4683-86AF-3BEB2E1E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5FF-4D79-4252-9116-D0FFB700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033-B4FB-4D6F-AED2-74DDBF2A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BFA-2779-4FFF-A434-F0637842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BBB-87C4-47B9-BCDC-5E3E296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A2C-1498-405C-A797-A559B92D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592-AD5A-4E52-B9BD-1CA74BF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F8F-7C9F-45D3-949F-D8791DF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8BB-5DE9-4CD9-87FD-12D29E26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4B4F-307A-483A-A102-48499D2AD81D}" type="slidenum">
              <a:rPr b="0" lang="fr-C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82680"/>
            <a:ext cx="90709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olving Biological Problems that require Math</a:t>
            </a:r>
            <a:br>
              <a:rPr sz="3200"/>
            </a:b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Gradient Formation for the Cell Size in Fission Yeas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9280" y="2519280"/>
            <a:ext cx="575928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000" y="2339640"/>
            <a:ext cx="36356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Men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ascha Dales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Johan Merç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Fabien Delapier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ucas Degrugil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9280" y="6267600"/>
            <a:ext cx="5759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020600"/>
            <a:ext cx="907092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079640"/>
            <a:ext cx="9070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44000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Calibri"/>
              </a:rPr>
              <a:t>Coordinated by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ven Berg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Mathe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519280"/>
            <a:ext cx="907092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aiter les données d'imageJ et définir des profils d'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Comparer les profils retournés par le Plug-in avec les nô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Validation du Plug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Données « à la main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800360"/>
            <a:ext cx="907092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1ère étape pour les données « à la main »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oyenne des 5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Soustraction de la valeur du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0360" y="4002120"/>
            <a:ext cx="5219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Comparaison avec le plug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907092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ansformer les données pour les rendre comparabl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Origine de l'axe des x diffé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aille de l'axe des x diffé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0360" y="4002120"/>
            <a:ext cx="5219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L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1200240"/>
            <a:ext cx="8460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Profils Plug-in systématiquement moins élevé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14720" y="2008080"/>
            <a:ext cx="431964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430360" y="4464000"/>
          <a:ext cx="521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La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2436480"/>
            <a:ext cx="907092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Confirmer le Plug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Analyses statistiques sur plusieurs prof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Définir un modèle mathématique à l'aide d'équations différentiel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Étude sur les mécanismes de contrôle et d'entrée en mitose de la levure S. Pombe menée par le groupe de recherche du Professeur Sophie Mart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Deux articles parus dans </a:t>
            </a:r>
            <a:r>
              <a:rPr b="0" i="1" lang="fr-CH" sz="26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CH" sz="2600" spc="-1" strike="noStrike">
                <a:solidFill>
                  <a:srgbClr val="000000"/>
                </a:solidFill>
                <a:latin typeface="Calibri"/>
              </a:rPr>
              <a:t>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500720"/>
            <a:ext cx="90709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Martin SG and Berthelot-Grosjean M.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« Polar gradients of the DYRK-family kinase Pom1 couple cell length with the cell cycle »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Calibri"/>
              </a:rPr>
              <a:t>2009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Nature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459: 85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Hachet O. &amp; al. « A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phosphorylation cycle shapes gradients of the DYRK-family kinase Pom1 at the plasma membrane »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Calibri"/>
              </a:rPr>
              <a:t>2011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Cell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145: 1116-1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Aspect Bi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Identification du rôle de la protéine po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Forme gradient cortical et intracellulaire servant à mesurer la taille de la cellule et permet à la levure de contrôler l'entrée en mit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859280" cy="287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6840360"/>
            <a:ext cx="485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1500" spc="-1" strike="noStrike">
                <a:solidFill>
                  <a:srgbClr val="000000"/>
                </a:solidFill>
                <a:latin typeface="Arial"/>
              </a:rPr>
              <a:t>Pom1-GFP</a:t>
            </a:r>
            <a:br>
              <a:rPr sz="1500"/>
            </a:b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0000" y="2340000"/>
            <a:ext cx="41403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Interaction de pom1 avec cdr2 inhibe l'entrée en mit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Pom1 prévient l'entrée prématurée en mitose des cellules de petite tai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94400" y="1260360"/>
            <a:ext cx="5205240" cy="378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60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Rôle de Pom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00720" y="5040360"/>
            <a:ext cx="3779640" cy="161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59280" y="6796080"/>
            <a:ext cx="4859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SG Matin &amp; M Berthelot-Gorsjean </a:t>
            </a:r>
            <a:r>
              <a:rPr b="0" i="1" lang="fr-CH" sz="15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 459 (20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Formation du gradient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ycle de phosphorylation de Po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9360000" cy="466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640" y="6478560"/>
            <a:ext cx="907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 &amp; al. </a:t>
            </a:r>
            <a:r>
              <a:rPr b="0" i="1" lang="fr-CH" sz="15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 145 (20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But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ieux comprendre le mécanisme de diffusion de Pom1 le long de l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Établir un modèle mathématique permettant de décrire la formation du grad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Développ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Trois étap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Extraction de données (Image 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Analyse de données (Mathemat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Modélisation (matla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Extraction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339640"/>
            <a:ext cx="907092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Utilisation d'Image J pour extraire des données numériques des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e gradient de pom1-GFP est exprimé en niveaux de g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La concentration de GFP est proportionnelle à l'intens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28720" y="539640"/>
            <a:ext cx="6551640" cy="288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28720" y="4140360"/>
            <a:ext cx="6551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2:16:15Z</dcterms:created>
  <dc:creator/>
  <dc:description/>
  <dc:language>en-US</dc:language>
  <cp:lastModifiedBy>Fabien Delapierre</cp:lastModifiedBy>
  <dcterms:modified xsi:type="dcterms:W3CDTF">2012-03-29T20:43:58Z</dcterms:modified>
  <cp:revision>51</cp:revision>
  <dc:subject/>
  <dc:title/>
</cp:coreProperties>
</file>